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073-CDA6-40FE-AC7B-026D7867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5C6-9ABE-4336-9649-E49C52E3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87DB-1BCD-4C1D-831D-C7A1813D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FCD-4B68-4E86-88EC-7C3CDEAD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C725-7002-49F5-9B2F-6E7872A0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661E-12A8-4D5E-83EE-52624DC3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1253-EAC9-464D-8960-929EB2C1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AEE2-0AA0-4724-A1B7-5231A4E0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0DBA-6737-48AD-8385-7B381EB3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5514-53B6-4092-B083-D3C2E886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9FA-51F0-4801-8280-CFC2FF35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077-1ADA-405E-81EE-A3CB4052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353-0147-4CDF-8892-283FF852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A155-C300-441D-A7AA-0987571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1D09-FAA7-499E-BAE6-26AC291F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09F5-D425-4800-B7D3-E3E61455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3070-E5D8-445C-A75A-F95C928B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E87D-DE7E-45A1-9796-693227B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12E-C0CC-4FB0-AEB0-203FF34B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DDD-58A6-4B52-9252-49547C8D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97E-D529-4EA7-9B1E-4CD04DA3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444-0FC6-45C8-886D-73AF996B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979-F205-4792-87DF-34D0144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C5A-4351-4725-AE5E-9F46B14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4566-BD44-4744-B881-2BF8D881DA7B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8C66-E45A-4D3C-84D0-965E28F7481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PSICHIKOS RAID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sichikos ontogenezė ir filogenezė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gaus raidos periodiz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E.ERIKSONO PSICHOSOCIALINĖS RAIDOS TEORIJ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augumas – nesaug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nuo gimimo iki 1 met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utonomiškumas – gėda, abejon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1-3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iciatyvumas – kalt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3-6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Meistriškumas – menkavert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7-11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Tapatumas – vaidmenų nea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paauglystė, 11 – 20 m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ymumas – izoli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jaunystė, 21 –2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tsinaujinimas – sąsting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vidutinis amži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egracija (pilnatvė) – nevilt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senatvė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Raidos KRIZĖ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utrieji individualios raidos perioda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n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v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ūs period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rizės esmė – poreikių, kurie kyla kiekvieno amžiaus tarpsnio pabaigoje, nepatenkinimo rezulta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patuma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1) sunku atskirti krizės pradžią ir pabaig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2) mokykloje krenta bendras darbingumas, konfliktai su aplinkiniais, konfliktai viduj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3) šiame periode vyst. būdingas negatyvus charakteris, vyst. atlieka tarsi griaunamąjį darbą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RAIDOS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KRIZ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 met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 metų (A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7 metų (perėjimas nuo ikimokyklinio amžiaus į mokyklin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auglystė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idutinio amžiaus (ap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enatvės + šeimos kriz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auglystė ir jaunystė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kceler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nfantiliz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Didėja sugebėjimas abstrakčiai mąsty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adidintas emocional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sichosocialinis moratori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il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ūšies istorinė raida, psichikos atsiradimas ir ra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Ont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žmogaus raida per jo gyvenimą. Individualus organizmo vystymasis. Ją tiria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idos psicholog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FILOGENETINIS PSICHIKOS VYSTYMASI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inezė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–organizmo bendro aktyvumo pasikeitimas, veikiant kuriam nors aplinkos veiksni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Taksis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yra kryptinga reakcija į konkretų aplinkos reiškin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Nesąlyginis refleks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atskiro organizmo lokali reakcija į išorinį ar vidinį dirginim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inkt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sudėtingiausias paveldėto elgesio komponentas, jam sukelti reikalinga vidinė parengtis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Pripratim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susijęs su viso organizmo ar atskirų jo dalių reakcijų silpnėjimu ir išnykimu, kartojantis nereikšmingam arba virtusiam nereikšmingu stimul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lasik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rument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telektinė veikla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įgalina orientuotis naujoje situacijoje, išskirti esminius jos elementus, numatyti įvykių eigą, sudaryti veikimo planą ir jį įgyvendi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200" spc="-1" strike="noStrike">
                <a:solidFill>
                  <a:srgbClr val="330033"/>
                </a:solidFill>
                <a:latin typeface="Tahoma"/>
              </a:rPr>
              <a:t>Raidos periodizacij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renatalinis perio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Kūdikystė (nuo gimimo iki 1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Ankstyvoji vaikystė (1-3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kimokyklinis amžius (3-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esnysis mokyklinis amžius (6-1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auglystė (10-1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yst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vyresnysis mokyklinis amžius (15-17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jaunystės laikotarpis (17-2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Br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pirmasis laikotarpis (21-3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laikotarpis (35-6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gyvenęs amžius (60-7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Senatvė (75-9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lgaamžystė (90 ir daugiau metų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NIS VYSTYMAS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nis vystymasis – pažinimo, emocinių – motyvacinių procesų ir asmenybės vyst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gaus raidos aspekta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Fiz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ognityv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socialinis aspekt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ūdikystė (10 d. – 1 m.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ensomotorinis intelekt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Aktyvumą skatina įvairūs fiziologiniai poreikiai, pasaulio pažinimas vyksta per jutimo organų lavėjim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Kalbos raid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čiauškėji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Psichosocialinis vystymas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šypsojimasis/juokas, verkimas, emocijos, temperamentas. Prieraišumo formavimasis (J. Bowlby, Lorencas, M. Ainsworth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erašumo charakteristikos 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pg. J.Bowlby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Artumo palaikym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us “roj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i platforma/ba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Išsiskyrimo ner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Vaikų intelekto raidos stadijos </a:t>
            </a:r>
            <a:br>
              <a:rPr sz="38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(pg. J.Piaget)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ensomotorinė stadija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0-2m). Vaikas turi refleksinį elgesį, jį po truputį keičia sudėtingesnė veikla. Su aplinka susipažįsta per jutimus, judesius. Savęs dar neskiria nuo aplink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riešoperacinio mąstymo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2-7m) Vaikas pradeda naudotis kalba ir simboliais. Mąstymui būdingas egocentriškumas, jis negali suprasti kito žmogaus perspektyvos. Pradeda suprasti loginius ryšius, sugeba skirstyti objektus į klases, įsisąmonina tvermės dėsnį. Ryškėja simbolinis mąstym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Konkreč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7-11m). Vaikas ima suprasti priežasties-pasekmės ryšius, suvokia laiko, kiekio, masės, ilgio sąvokas. Mąstymas išlieka konkretus, gali suprasti tik veiksmus su konkrečiais daikta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1-14m). Mąstymas logiškas, mokslinis (t.y. keliamos hipotezės, jos tikrinamos, siekiama tam tikrų tikslų) naudojamos abstrakcij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ost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4 ir daugiau m.) – pats autorius neskyrė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25:21Z</dcterms:created>
  <dc:creator>vplc</dc:creator>
  <dc:description/>
  <dc:language>en-US</dc:language>
  <cp:lastModifiedBy> </cp:lastModifiedBy>
  <dcterms:modified xsi:type="dcterms:W3CDTF">2007-09-12T21:49:38Z</dcterms:modified>
  <cp:revision>21</cp:revision>
  <dc:subject/>
  <dc:title>Slide 1</dc:title>
</cp:coreProperties>
</file>